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B62-DABA-4724-8E7B-51B45E6A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E0FB-2A32-405B-B504-392AE372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478-F370-4BB3-B4E6-5D8C2BE1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EBC-581C-44E0-BE1A-6989AE37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5FB-4560-45B0-8D51-5AF8042B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5F6-6869-4BF3-B4AC-0BE51E5E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F32-A042-4777-A878-E507F132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1770-2FDC-43A8-A461-9C234983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820-BDD9-4117-8D7F-4B0FA9DA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FB3-E171-4E5E-93BF-982439D6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1B6-315F-44EA-AD33-105F1A59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E37-683D-4D8C-A6C6-2629BA3A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0796-3734-4995-86C7-B03297F3B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Teacher Left Behi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reating Professional Development      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for Transfer to Classroom Practic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18288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ring Thin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your schools purpo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he advantages / disadvantages of each system when thinking about alignment to your purpo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94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em Expec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 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 Study 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the information from class – study your current plan to identify most important gaps in curr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the information from class – generate ideas for improving your current improvement plan and P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ight be some targets that would indicate you have made improvement in your plan with some specific 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nd post one essential question about transfer and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-30-15 metacognition and sh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 your school goals you will accomplish during this course with a PD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andsh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means to sort of squeeze their hand, not too hard that their hand turns blue, then shake it firml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means that someone is sending you the message that they are serio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can also be construed to mean “we’re in agreement” or even that an informal contract has been reached, as in the proverbial handshake deal. And on a still deeper level, it can mean “everything’s OK between us.</a:t>
            </a:r>
            <a:br>
              <a:rPr sz="1300"/>
            </a:br>
            <a:br>
              <a:rPr sz="1300"/>
            </a:b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shake 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eye contact with someone that you are not sitting n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yourself to your part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de what your handshake might mean and complete a handsh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d to the prom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a new partner and repeat the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shake Promp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tells us that only 10% of all teacher training is used in the classroom.  What is your theory on why this is occu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 you and your previous partner’s theory on why only 10% of training transfers to the classroom.  Discuss who owns this issue and what should the owner do about the iss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 your needs and expectations for this cour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your le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to leave no teacher behind, you will need to change you perspective on what and how we do professional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ze there is more than one right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yourself in the right place to maximize your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your technical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CREA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urn the ordinary into extraordi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standing Y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why you have decided to come as individuals and as a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each person provide for the team what is to important to their personal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leave a team member behind you decrease your chance of success significantly what one norm will you abide by in order to ensure no one is left beh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ining Advance Organizer, PD Calend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visual most represents your current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view details"/>
          <p:cNvPicPr/>
          <p:nvPr/>
        </p:nvPicPr>
        <p:blipFill>
          <a:blip r:embed="rId1"/>
          <a:stretch/>
        </p:blipFill>
        <p:spPr>
          <a:xfrm>
            <a:off x="457200" y="2209680"/>
            <a:ext cx="2895480" cy="2895840"/>
          </a:xfrm>
          <a:prstGeom prst="rect">
            <a:avLst/>
          </a:prstGeom>
          <a:ln w="0">
            <a:noFill/>
          </a:ln>
        </p:spPr>
      </p:pic>
      <p:sp>
        <p:nvSpPr>
          <p:cNvPr id="57" name="Oval 4"/>
          <p:cNvSpPr/>
          <p:nvPr/>
        </p:nvSpPr>
        <p:spPr>
          <a:xfrm>
            <a:off x="4419720" y="2057400"/>
            <a:ext cx="3504960" cy="3352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5029200" y="2438280"/>
            <a:ext cx="2286000" cy="26672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5486400" y="3048120"/>
            <a:ext cx="1447920" cy="1447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agram 3" descr=""/>
          <p:cNvPicPr/>
          <p:nvPr/>
        </p:nvPicPr>
        <p:blipFill>
          <a:blip r:embed="rId1"/>
          <a:stretch/>
        </p:blipFill>
        <p:spPr>
          <a:xfrm>
            <a:off x="603360" y="573120"/>
            <a:ext cx="8321400" cy="605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2209680" y="1523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dating and Monitoring Improvement Process and Innovation Para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666880" y="29718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dating and Monitoring Improvement Focus and Innovation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352680" y="5257800"/>
            <a:ext cx="289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sting and Monitoring  Improvement  Strategies and  Inno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0" y="6858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al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228600" y="5791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6629400" y="6094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ding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7696080" y="26668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l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6629400" y="565776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ing Collaborativ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19:16:39Z</dcterms:created>
  <dc:creator>Debra Webb</dc:creator>
  <dc:description/>
  <dc:language>en-US</dc:language>
  <cp:lastModifiedBy>Debra Webb</cp:lastModifiedBy>
  <dcterms:modified xsi:type="dcterms:W3CDTF">2012-03-07T22:08:47Z</dcterms:modified>
  <cp:revision>31</cp:revision>
  <dc:subject/>
  <dc:title>No Teacher Left Behind</dc:title>
</cp:coreProperties>
</file>